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E5F-66AE-4C59-BB8F-B6D045C4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85E-A475-4D0E-A5DF-C1013439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332-9C9C-48D8-9F2C-26FA91AD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889-1E32-47F1-9C71-E0D0AFF0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28E-3B23-479B-B7E1-1387C4AD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C23-99D1-4AEF-A421-59D081C1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A90-F303-4147-BA20-ADF52105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7CE-C2C7-4072-98CA-92273FF7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754-E493-48F8-B861-B176FF21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F23-E67F-4A89-B69D-889A5C56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F5E-3C90-4A0B-82B0-DDE01BCE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BA9-6EE2-4156-819D-1F48E5E4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79F5-CC8E-4435-AED1-DA4B4FB063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HI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14200" y="145584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εγον οὐν τῳ Πιλατῳ οἱ ἀρχιερεις των Ἰουδαιων∙ Μη γραφε∙ Ὁ βασιλευς των Ἰουδαιων, ἀλλ’ ὁτι ἐκεινος εἰπεν, Βασιλευς εἰμι των Ἰουδαι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Ἰησους εἰπεν αὐτῳ∙ Τί με λεγεις ἀγαθ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δεις ἀγαθος εἰ μη εἱς ὁ θε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χαρις του κυριου Ἰησου Χριστου και ἡ ἀγαπη του θεου και ἡ κοινωνι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ellowship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 ἁγιου πνευματος μετα παντων ὑ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καλειτε τινα Ῥαββι∙ εἱς γαρ ἐστιν ὑμων ὁ διδασκαλ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παντες δε ὑμεις ἀδελφοι ἐσ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ὁ Πετρος λεγει τῳ Ἰησου∙ Ῥαββι, καλον ἐστιν ἡμας ὡδε εἰναι, και οἰδοκομησομεν τρεις σκην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ree tent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μιν, σοι μιαν και Μωϋσει μιαν και Ἠλιᾳ μ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σονται οἱ δυο εἰς σαρκα μιαν∙ οὑτως οὐκετι εἰσιν δυο ἀλλα μια σαρ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908160" y="11127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14200" y="1357200"/>
            <a:ext cx="86439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πας ὁ ὀχλος ἐζητουν ἁπτεσθαι αὐτου, ὁτι δυναμις παρ’ αὐτου ἐξηρχετο και ἐθεραπευεν παντ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ξηλθον οἱ μαθηται και ἠλθον εἰς την πολιν και εὑρον καθως εἰπεν αὐτ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one of the scribes, having approached, said to him, ‘Rabbi, I will follow you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he will be king over the house of Jacob forever, and of his kingdom there will not be an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orld you have suffering, but you have peace in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go out into resurrection of life, but others to a resurrection of ju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15360" y="124308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4200" y="184644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ρχεται εἱς των ἀρχισυναγωνων, ὀνοματι Ἰαϊρος, και ἰδων αὐτον πιπτει προς τους ποδας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νους ἐν τῳ σκοτει ἐργαζεται πονηρα τῃ συνειδησει τῃ κακ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 δε πληθος ἐπι τῳ ὀρει αἰτησει την παρακλησιν ἀπο 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ἑν ἐτος  ὁ ἀρχιερευς ἠν ἀσθεν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ς δεξεται το ἐλεος του βασιλεω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δεις ἠ παντε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ἁπασιν μεν ἡ γνωσις της ἀναστασεως, πολλων δε ὁ νους ἐν σκοτε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14200" y="135720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νομος του Μωϋσεως λεγει περι του ἐλεους του ἀληθους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πεστειλεν αὐτους κηρυσσειν την βασιλειαν του θεου και θεραπευειν παντας τους ἀσθεν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nation has knowledge about the blind and the we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received from his father his part of their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all members of the body of Chr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ill be suffering for everybody, good and b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4240" y="1500120"/>
            <a:ext cx="778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hew 28.18-20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προσελθὼν ὁ Ἰησοῦς ἐλάλησεν αὐτοῖς λέγων, Ἐδόθη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s been give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οι πᾶσα ἐξουσία ἐν οὐρανῷ καὶ ἐπὶ τῆς γῆς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19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πορευθέντε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ὖν μαθητεύσατε [μαθητευω = μαθητης ποιω] πάντα τὰ ἔθνη, βαπτίζοντες αὐτοὺς εἰς τὸ ὄνομα τοῦ πατρὸς καὶ τοῦ υἱοῦ καὶ τοῦ ἁγίου πνεύματος,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0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διδάσκοντες αὐτοὺς τηρεῖν πάντα ὅσα ἐνετειλάμην [ἐντελλομαι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comman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μῖν∙ καὶ ἰδοὺ ἐγὼ μεθ’ ὑμῶν εἰμι πάσας τὰς ἡμέρας ἕως τῆς συντελεί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mpleti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ῦ αἰῶ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9:56:56Z</dcterms:created>
  <dc:creator>Sarah</dc:creator>
  <dc:description/>
  <dc:language>en-US</dc:language>
  <cp:lastModifiedBy>Sarah</cp:lastModifiedBy>
  <dcterms:modified xsi:type="dcterms:W3CDTF">2009-07-09T18:44:14Z</dcterms:modified>
  <cp:revision>19</cp:revision>
  <dc:subject/>
  <dc:title>Slide 1</dc:title>
</cp:coreProperties>
</file>